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5F97E5-7AE6-4BC9-A798-3AC7B13A63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82760" y="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211" name=""/>
          <p:cNvSpPr/>
          <p:nvPr/>
        </p:nvSpPr>
        <p:spPr>
          <a:xfrm>
            <a:off x="0" y="3124080"/>
            <a:ext cx="6881760" cy="62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lso analyzed recent enrollment data at the mountain and COT campuses, determining the number of students who would likely qualify for the program, but would have attended anyway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combined these with the estimate (from the previous slide) of qualified incremental students by campus to project the total participation at each campus.  (Roughly 70% on mountain campus, 30% COT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, we utilized retention data to project the number from each cohort who would return the next ye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chart depicts the resulting 4-year projection for the mountain campu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7ED-DF9C-44C8-8812-F24177E0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FD2-BF8C-42CF-A62A-49515421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45E-D384-4F68-820D-7EE1C2E7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06C-C368-4B32-A230-04BBDA90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5983-1150-4964-A4F4-7652225C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0A5F-82CD-4BFE-BAC0-226664E3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0B54-25A6-40BD-9477-C958BE69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ED49-E599-400D-8DA3-ED275FFD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8C99-331C-4138-B23A-34ED13A7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1BCE-8989-44E3-8FA3-92A9F941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5FD1-0C06-414A-B778-58465AF5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421-62DE-4DB9-B750-D326782D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C4D1-29EE-41FC-AC85-D96589D7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2F55-84CA-4AE5-9501-08AB7E0C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7213-39D7-42C3-9446-31BD1125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1475-8A78-463D-AB45-42890DA0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06D9-0A30-4921-AB8F-2D92808D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264-1E3B-40E5-B412-0BC934AB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601-0D32-4BA6-9793-31558072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1A9-2258-44D4-A2CC-CBB578EB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B0D-76AB-44B2-B741-9DE570B4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5E3-3A4E-41E9-BF93-BD2A2D4A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700-B7AC-49D3-812E-AC02DE0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A03-C17A-4D03-BEA3-32D49532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d395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d395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99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AE03-19BF-4139-98AA-C4A60E1BEE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ad39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ad39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31DF-D5CB-44DE-B344-5B096B6E58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d39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d39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9807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00"/>
                </a:solidFill>
                <a:latin typeface="Impact"/>
              </a:rPr>
              <a:t>MPACT</a:t>
            </a:r>
            <a:endParaRPr b="0" lang="en-US" sz="60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60199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60000"/>
                </a:solidFill>
                <a:latin typeface="Times New Roman"/>
              </a:rPr>
              <a:t>EFC Examples</a:t>
            </a:r>
            <a:endParaRPr b="0" lang="en-US" sz="5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276720"/>
            <a:ext cx="5486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705720" y="838080"/>
            <a:ext cx="2190600" cy="6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914400" y="1981080"/>
          <a:ext cx="7543800" cy="3885840"/>
        </p:xfrm>
        <a:graphic>
          <a:graphicData uri="http://schemas.openxmlformats.org/drawingml/2006/table">
            <a:tbl>
              <a:tblPr/>
              <a:tblGrid>
                <a:gridCol w="3352680"/>
                <a:gridCol w="1362240"/>
                <a:gridCol w="1380960"/>
                <a:gridCol w="144792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Parent’s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$20,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$27,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$39,7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Parent’s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$100,8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$3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Number in 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Number in Colle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Student’s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Student’s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$3,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$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EF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$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$2,2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60000"/>
                          </a:solidFill>
                          <a:latin typeface="Comic Sans MS"/>
                        </a:rPr>
                        <a:t>$2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848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00"/>
                </a:solidFill>
                <a:latin typeface="Impact"/>
              </a:rPr>
              <a:t>MPACT</a:t>
            </a:r>
            <a:endParaRPr b="0" lang="en-US" sz="60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04920" y="1981080"/>
          <a:ext cx="8496360" cy="33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49636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04920" y="5334120"/>
            <a:ext cx="86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60000"/>
                </a:solidFill>
                <a:latin typeface="Comic Sans MS"/>
              </a:rPr>
              <a:t>* Expected Family Contribution – as defined by Federal financial aid guidel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3276720"/>
            <a:ext cx="5486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20968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0000"/>
                </a:solidFill>
                <a:latin typeface="Comic Sans MS"/>
              </a:rPr>
              <a:t>Net Direct Cost </a:t>
            </a:r>
            <a:r>
              <a:rPr b="0" lang="en-US" sz="1800" spc="-1" strike="noStrike">
                <a:solidFill>
                  <a:srgbClr val="860000"/>
                </a:solidFill>
                <a:latin typeface="Comic Sans MS"/>
              </a:rPr>
              <a:t>(after Pell, SEOG, work study)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$4,49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Less </a:t>
            </a:r>
            <a:r>
              <a:rPr b="0" i="1" lang="en-US" sz="2400" spc="-1" strike="noStrike">
                <a:solidFill>
                  <a:srgbClr val="860000"/>
                </a:solidFill>
                <a:latin typeface="Impact"/>
              </a:rPr>
              <a:t>MPAC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ward -   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         ($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Comic Sans MS"/>
              </a:rPr>
              <a:t>2,00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Student Obligation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$2,490 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434340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0000"/>
                </a:solidFill>
                <a:latin typeface="Comic Sans MS"/>
              </a:rPr>
              <a:t>* $1,350 at the C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258840" y="609480"/>
            <a:ext cx="88851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00"/>
                </a:solidFill>
                <a:latin typeface="Impact"/>
              </a:rPr>
              <a:t>MPAC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19112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Comic Sans MS"/>
              </a:rPr>
              <a:t>* A student’s obligation can be financed with guaranteed student loans or reduced by external fundi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1600" y="19810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0000"/>
                </a:solidFill>
                <a:latin typeface="Comic Sans MS"/>
              </a:rPr>
              <a:t>Methodology for Projecting Incremental Stud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258840" y="457200"/>
            <a:ext cx="8885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00"/>
                </a:solidFill>
                <a:latin typeface="Impact"/>
              </a:rPr>
              <a:t>MPAC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0360" y="2575080"/>
          <a:ext cx="9014040" cy="29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2575080"/>
                    <a:ext cx="901404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71600" y="19810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0000"/>
                </a:solidFill>
                <a:latin typeface="Comic Sans MS"/>
              </a:rPr>
              <a:t>4 Year Projected Awards – Mountain Camp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58840" y="685800"/>
            <a:ext cx="8885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00"/>
                </a:solidFill>
                <a:latin typeface="Impact"/>
              </a:rPr>
              <a:t>MPAC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4280" y="2855880"/>
          <a:ext cx="9050400" cy="18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" y="2855880"/>
                    <a:ext cx="905040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71600" y="19810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0000"/>
                </a:solidFill>
                <a:latin typeface="Comic Sans MS"/>
              </a:rPr>
              <a:t>4 Year Projected Awards – COT Camp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258840" y="609480"/>
            <a:ext cx="88851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00"/>
                </a:solidFill>
                <a:latin typeface="Impact"/>
              </a:rPr>
              <a:t>MPAC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4280" y="2855880"/>
          <a:ext cx="9050400" cy="19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" y="2855880"/>
                    <a:ext cx="90504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71600" y="18288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0000"/>
                </a:solidFill>
                <a:latin typeface="Comic Sans MS"/>
              </a:rPr>
              <a:t>Projection of 4 Year Cost – UM-Missou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58840" y="457200"/>
            <a:ext cx="8885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00"/>
                </a:solidFill>
                <a:latin typeface="Impact"/>
              </a:rPr>
              <a:t>MPAC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90720" y="2514600"/>
          <a:ext cx="7183440" cy="33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718344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1600" y="1981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60000"/>
                </a:solidFill>
                <a:latin typeface="Comic Sans MS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2743200"/>
            <a:ext cx="914400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0000"/>
                </a:solidFill>
                <a:latin typeface="Comic Sans MS"/>
              </a:rPr>
              <a:t>Addresses “tuition gap” for Montana families ≤ median incom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0000"/>
                </a:solidFill>
                <a:latin typeface="Comic Sans MS"/>
              </a:rPr>
              <a:t>Mitigates declining pool of resident high school graduate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0000"/>
                </a:solidFill>
                <a:latin typeface="Comic Sans MS"/>
              </a:rPr>
              <a:t>Improves yield of students at upper range of academic profil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0000"/>
                </a:solidFill>
                <a:latin typeface="Comic Sans MS"/>
              </a:rPr>
              <a:t>Improves retention - preparedness and financial assista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0000"/>
                </a:solidFill>
                <a:latin typeface="Comic Sans MS"/>
              </a:rPr>
              <a:t>Provides long-term incentive for academic achievement in K-1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258840" y="762120"/>
            <a:ext cx="8885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00"/>
                </a:solidFill>
                <a:latin typeface="Impact"/>
              </a:rPr>
              <a:t>MPAC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705720" y="838080"/>
            <a:ext cx="2190600" cy="6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60000"/>
                </a:solidFill>
                <a:latin typeface="Times New Roman"/>
              </a:rPr>
              <a:t>The Situation</a:t>
            </a:r>
            <a:endParaRPr b="0" lang="en-US" sz="5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76720"/>
            <a:ext cx="5486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209680"/>
            <a:ext cx="883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Nearly half of Montana high school graduates do not go on to higher education, and 15% go to college out of st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8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Net cost of attendance at MUS campuses can lead to challenging debt loads for many Montana families               </a:t>
            </a:r>
            <a:r>
              <a:rPr b="0" i="1" lang="en-US" sz="2000" spc="-1" strike="noStrike">
                <a:solidFill>
                  <a:srgbClr val="990033"/>
                </a:solidFill>
                <a:latin typeface="Comic Sans MS"/>
              </a:rPr>
              <a:t>(at or below median household income).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8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e annual number of Montana high school graduates will decline by at least 1,000 students over the next deca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60000"/>
                </a:solidFill>
                <a:latin typeface="Times New Roman"/>
              </a:rPr>
              <a:t>The Situation</a:t>
            </a:r>
            <a:endParaRPr b="0" lang="en-US" sz="5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276720"/>
            <a:ext cx="5486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057400"/>
            <a:ext cx="7315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rect Cost of Attendance at the University of Montana – Missoula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(Mountain Campus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uition &amp; Fees -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$4,89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Room &amp; Board  -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  5,6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Books &amp; Supplies -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    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Comic Sans MS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$11,34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181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ffef"/>
                </a:solidFill>
                <a:latin typeface="Comic Sans MS"/>
              </a:rPr>
              <a:t>* Based on current costs. Excludes financial aid allowance for personal expense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60000"/>
                </a:solidFill>
                <a:latin typeface="Times New Roman"/>
              </a:rPr>
              <a:t>The Situation</a:t>
            </a:r>
            <a:endParaRPr b="0" lang="en-US" sz="5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3276720"/>
            <a:ext cx="5486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209680"/>
            <a:ext cx="8382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Aid available for MT students with highest ne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Pell Grant -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$ 4,05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Federal SEOG  -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$    8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College Work Study - $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Comic Sans MS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$ 6,85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60000"/>
                </a:solidFill>
                <a:latin typeface="Times New Roman"/>
              </a:rPr>
              <a:t>The Situation</a:t>
            </a:r>
            <a:endParaRPr b="0" lang="en-US" sz="5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3276720"/>
            <a:ext cx="5486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20968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t Direct Cost of Attenda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Direct Cost -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$11,34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Less gift aid  -          ($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Comic Sans MS"/>
              </a:rPr>
              <a:t>6,85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$4,49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60000"/>
                </a:solidFill>
                <a:latin typeface="Times New Roman"/>
              </a:rPr>
              <a:t>The Challenge</a:t>
            </a:r>
            <a:endParaRPr b="0" lang="en-US" sz="5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3276720"/>
            <a:ext cx="5486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09680"/>
            <a:ext cx="914400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0000"/>
                </a:solidFill>
                <a:latin typeface="Comic Sans MS"/>
              </a:rPr>
              <a:t>Create a program to provide a more affordable college education opportunity to modest income level Montana high school gradua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0000"/>
                </a:solidFill>
                <a:latin typeface="Comic Sans MS"/>
              </a:rPr>
              <a:t>Evaluate the “Illinois Promise” and similar programs in North Carolina, Georgia, and other sta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0000"/>
                </a:solidFill>
                <a:latin typeface="Comic Sans MS"/>
              </a:rPr>
              <a:t>But, </a:t>
            </a:r>
            <a:r>
              <a:rPr b="0" lang="en-US" sz="2400" spc="-1" strike="noStrike" u="sng">
                <a:solidFill>
                  <a:srgbClr val="860000"/>
                </a:solidFill>
                <a:uFillTx/>
                <a:latin typeface="Comic Sans MS"/>
              </a:rPr>
              <a:t>tailor the program</a:t>
            </a:r>
            <a:r>
              <a:rPr b="0" lang="en-US" sz="2400" spc="-1" strike="noStrike">
                <a:solidFill>
                  <a:srgbClr val="860000"/>
                </a:solidFill>
                <a:latin typeface="Comic Sans MS"/>
              </a:rPr>
              <a:t> to better fit the goals and resources of The University of Montana, and the demographic and financial profiles of students and families in Monta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60000"/>
                </a:solidFill>
                <a:latin typeface="Times New Roman"/>
              </a:rPr>
              <a:t>The Proposal</a:t>
            </a:r>
            <a:endParaRPr b="0" lang="en-US" sz="5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00"/>
                </a:solidFill>
                <a:latin typeface="Impact"/>
              </a:rPr>
              <a:t>MPAC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600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860000"/>
                </a:solidFill>
                <a:latin typeface="Comic Sans MS"/>
              </a:rPr>
              <a:t>onta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5131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600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860000"/>
                </a:solidFill>
                <a:latin typeface="Comic Sans MS"/>
              </a:rPr>
              <a:t>artne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1827360" y="29718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60000"/>
                </a:solidFill>
                <a:latin typeface="Comic Sans MS"/>
              </a:rPr>
              <a:t>for </a:t>
            </a:r>
            <a:r>
              <a:rPr b="0" i="1" lang="en-US" sz="2800" spc="-1" strike="noStrike">
                <a:solidFill>
                  <a:srgbClr val="8600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860000"/>
                </a:solidFill>
                <a:latin typeface="Comic Sans MS"/>
              </a:rPr>
              <a:t>fford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2513160" y="34275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600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860000"/>
                </a:solidFill>
                <a:latin typeface="Comic Sans MS"/>
              </a:rPr>
              <a:t>olle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198960" y="38847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60000"/>
                </a:solidFill>
                <a:latin typeface="Comic Sans MS"/>
              </a:rPr>
              <a:t>T</a:t>
            </a:r>
            <a:r>
              <a:rPr b="0" i="1" lang="en-US" sz="2000" spc="-1" strike="noStrike">
                <a:solidFill>
                  <a:srgbClr val="860000"/>
                </a:solidFill>
                <a:latin typeface="Comic Sans MS"/>
              </a:rPr>
              <a:t>ui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05720" y="762120"/>
            <a:ext cx="219060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60000"/>
                </a:solidFill>
                <a:latin typeface="Times New Roman"/>
              </a:rPr>
              <a:t>The Proposal</a:t>
            </a:r>
            <a:endParaRPr b="0" lang="en-US" sz="54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276720"/>
            <a:ext cx="5486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057400"/>
            <a:ext cx="914400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00"/>
                </a:solidFill>
                <a:latin typeface="Impact"/>
              </a:rPr>
              <a:t>   </a:t>
            </a:r>
            <a:r>
              <a:rPr b="0" i="1" lang="en-US" sz="6000" spc="-1" strike="noStrike">
                <a:solidFill>
                  <a:srgbClr val="660000"/>
                </a:solidFill>
                <a:latin typeface="Impact"/>
              </a:rPr>
              <a:t>MPAC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0000"/>
                </a:solidFill>
                <a:latin typeface="Comic Sans MS"/>
              </a:rPr>
              <a:t>For new high school graduates</a:t>
            </a:r>
            <a:r>
              <a:rPr b="0" lang="en-US" sz="2400" spc="-1" strike="noStrike">
                <a:solidFill>
                  <a:srgbClr val="f8ffeb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3733920"/>
            <a:ext cx="7543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0000"/>
                </a:solidFill>
                <a:latin typeface="Comic Sans MS"/>
              </a:rPr>
              <a:t>Dependent students with Pell Grant eligibility</a:t>
            </a:r>
            <a:r>
              <a:rPr b="0" lang="en-US" sz="2000" spc="-1" strike="noStrike">
                <a:solidFill>
                  <a:srgbClr val="86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60000"/>
                </a:solidFill>
                <a:latin typeface="Comic Sans MS"/>
              </a:rPr>
              <a:t>       </a:t>
            </a:r>
            <a:r>
              <a:rPr b="0" i="1" lang="en-US" sz="2000" spc="-1" strike="noStrike">
                <a:solidFill>
                  <a:srgbClr val="860000"/>
                </a:solidFill>
                <a:latin typeface="Comic Sans MS"/>
              </a:rPr>
              <a:t>(most Montana families up to median incom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572000"/>
            <a:ext cx="8686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86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0000"/>
                </a:solidFill>
                <a:latin typeface="Comic Sans MS"/>
              </a:rPr>
              <a:t>Academically prepared stud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60000"/>
                </a:solidFill>
                <a:latin typeface="Comic Sans MS"/>
              </a:rPr>
              <a:t>(High school GPA ≥ 3.0 </a:t>
            </a:r>
            <a:r>
              <a:rPr b="0" i="1" lang="en-US" sz="2000" spc="-1" strike="noStrike" u="sng">
                <a:solidFill>
                  <a:srgbClr val="860000"/>
                </a:solidFill>
                <a:uFillTx/>
                <a:latin typeface="Comic Sans MS"/>
              </a:rPr>
              <a:t>and</a:t>
            </a:r>
            <a:r>
              <a:rPr b="0" i="1" lang="en-US" sz="2000" spc="-1" strike="noStrike">
                <a:solidFill>
                  <a:srgbClr val="860000"/>
                </a:solidFill>
                <a:latin typeface="Comic Sans MS"/>
              </a:rPr>
              <a:t> ACT ≥ 25 - mountain campu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60000"/>
                </a:solidFill>
                <a:latin typeface="Comic Sans MS"/>
              </a:rPr>
              <a:t>(High school GPA ≥ 2.5  - CO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705720" y="838080"/>
            <a:ext cx="2190600" cy="6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00"/>
                </a:solidFill>
                <a:latin typeface="Times New Roman"/>
              </a:rPr>
              <a:t>EFC=Expected Family contribution</a:t>
            </a:r>
            <a:endParaRPr b="0" lang="en-US" sz="3200" spc="-1" strike="noStrike">
              <a:solidFill>
                <a:srgbClr val="86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3276720"/>
            <a:ext cx="5486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6172200"/>
            <a:ext cx="836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MPACT - </a:t>
            </a:r>
            <a:r>
              <a:rPr b="0" i="1" lang="en-US" sz="1800" spc="-1" strike="noStrike">
                <a:solidFill>
                  <a:srgbClr val="660000"/>
                </a:solidFill>
                <a:latin typeface="Times New Roman"/>
              </a:rPr>
              <a:t>Montana Partnering for Affordable College Tuition</a:t>
            </a:r>
            <a:r>
              <a:rPr b="0" i="1" lang="en-US" sz="20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29400" y="838080"/>
            <a:ext cx="2514600" cy="716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80000"/>
              </a:lnSpc>
              <a:spcBef>
                <a:spcPts val="1576"/>
              </a:spcBef>
              <a:buClr>
                <a:srgbClr val="6600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00"/>
                </a:solidFill>
                <a:latin typeface="Comic Sans MS"/>
              </a:rPr>
              <a:t>Federal computation determined from information provided on the Free Application for Federal Student Aid (FAF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00"/>
                </a:solidFill>
                <a:latin typeface="Comic Sans MS"/>
              </a:rPr>
              <a:t>Major factors affecting E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905120" y="1143000"/>
            <a:ext cx="7238880" cy="5562720"/>
            <a:chOff x="1905120" y="1143000"/>
            <a:chExt cx="7238880" cy="5562720"/>
          </a:xfrm>
        </p:grpSpPr>
        <p:sp>
          <p:nvSpPr>
            <p:cNvPr id="153" name=""/>
            <p:cNvSpPr txBox="1"/>
            <p:nvPr/>
          </p:nvSpPr>
          <p:spPr>
            <a:xfrm>
              <a:off x="1905120" y="1143000"/>
              <a:ext cx="7238880" cy="556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12800" y="4017600"/>
              <a:ext cx="1206360" cy="1298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60000"/>
                  </a:solidFill>
                  <a:latin typeface="Comic Sans MS"/>
                </a:rPr>
                <a:t>Studen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60000"/>
                  </a:solidFill>
                  <a:latin typeface="Comic Sans MS"/>
                </a:rPr>
                <a:t>Incom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19520" y="4017600"/>
              <a:ext cx="1206360" cy="1192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60000"/>
                  </a:solidFill>
                  <a:latin typeface="Comic Sans MS"/>
                </a:rPr>
                <a:t>Paren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60000"/>
                  </a:solidFill>
                  <a:latin typeface="Comic Sans MS"/>
                </a:rPr>
                <a:t>Incom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826240" y="4215600"/>
              <a:ext cx="452160" cy="794520"/>
            </a:xfrm>
            <a:prstGeom prst="line">
              <a:avLst/>
            </a:prstGeom>
            <a:ln w="38160">
              <a:solidFill>
                <a:srgbClr val="8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278400" y="3024360"/>
              <a:ext cx="720" cy="2384280"/>
            </a:xfrm>
            <a:prstGeom prst="line">
              <a:avLst/>
            </a:prstGeom>
            <a:ln w="38160">
              <a:solidFill>
                <a:srgbClr val="8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19520" y="3024360"/>
              <a:ext cx="1658880" cy="990360"/>
            </a:xfrm>
            <a:prstGeom prst="parallelogram">
              <a:avLst>
                <a:gd name="adj" fmla="val 41876"/>
              </a:avLst>
            </a:prstGeom>
            <a:solidFill>
              <a:srgbClr val="ffffff"/>
            </a:solidFill>
            <a:ln w="38160">
              <a:solidFill>
                <a:srgbClr val="8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60000"/>
                  </a:solidFill>
                  <a:latin typeface="Comic Sans MS"/>
                </a:rPr>
                <a:t># in 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60000"/>
                  </a:solidFill>
                  <a:latin typeface="Comic Sans MS"/>
                </a:rPr>
                <a:t>Household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12800" y="3024360"/>
              <a:ext cx="1658880" cy="992880"/>
            </a:xfrm>
            <a:prstGeom prst="parallelogram">
              <a:avLst>
                <a:gd name="adj" fmla="val 41769"/>
              </a:avLst>
            </a:prstGeom>
            <a:solidFill>
              <a:srgbClr val="ffffff"/>
            </a:solidFill>
            <a:ln w="38160">
              <a:solidFill>
                <a:srgbClr val="8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60000"/>
                  </a:solidFill>
                  <a:latin typeface="Comic Sans MS"/>
                </a:rPr>
                <a:t># 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60000"/>
                  </a:solidFill>
                  <a:latin typeface="Comic Sans MS"/>
                </a:rPr>
                <a:t>Dependent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60000"/>
                  </a:solidFill>
                  <a:latin typeface="Comic Sans MS"/>
                </a:rPr>
                <a:t>In colleg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12800" y="5010480"/>
              <a:ext cx="1206360" cy="1192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60000"/>
                  </a:solidFill>
                  <a:latin typeface="Comic Sans MS"/>
                </a:rPr>
                <a:t>Studen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60000"/>
                  </a:solidFill>
                  <a:latin typeface="Comic Sans MS"/>
                </a:rPr>
                <a:t>Asse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26240" y="5408640"/>
              <a:ext cx="452160" cy="794160"/>
            </a:xfrm>
            <a:prstGeom prst="line">
              <a:avLst/>
            </a:prstGeom>
            <a:ln w="38160">
              <a:solidFill>
                <a:srgbClr val="8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19520" y="5010480"/>
              <a:ext cx="1206360" cy="1192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60000"/>
                  </a:solidFill>
                  <a:latin typeface="Comic Sans MS"/>
                </a:rPr>
                <a:t>Paren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60000"/>
                  </a:solidFill>
                  <a:latin typeface="Comic Sans MS"/>
                </a:rPr>
                <a:t>Asse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16:11:42Z</dcterms:created>
  <dc:creator>museaw</dc:creator>
  <dc:description/>
  <dc:language>en-US</dc:language>
  <cp:lastModifiedBy>srosette</cp:lastModifiedBy>
  <dcterms:modified xsi:type="dcterms:W3CDTF">2005-10-19T18:08:24Z</dcterms:modified>
  <cp:revision>103</cp:revision>
  <dc:subject/>
  <dc:title>Hitchhiker's Guide to  The Budget Process(es)</dc:title>
</cp:coreProperties>
</file>